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12D2-3A5A-46C1-8178-69053F2B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382-E889-4C37-9262-B8AF0B40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959-B5D4-4DAF-A23A-ED2F9411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98C3-613C-4A38-B311-1D1AB415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DA5-B1E1-45AE-9538-053EFF46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6ED-F405-4B74-93D0-A6C3022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AB8-7EA5-4702-BD46-4C0BAD3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3EC-EAF2-433C-8FDF-04664A47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F2B-0AD1-4E9A-8E41-B637ACDB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461-22D5-4620-A0D3-8C547127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1B1-0A57-4E8D-961B-8DDC9CC8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BD8-F68D-4FA3-B04E-15461427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618E-C1A8-478C-87B0-D91AA86AF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760" y="1638360"/>
            <a:ext cx="649080" cy="658800"/>
          </a:xfrm>
          <a:custGeom>
            <a:avLst/>
            <a:gdLst/>
            <a:ahLst/>
            <a:rect l="l" t="t" r="r" b="b"/>
            <a:pathLst>
              <a:path w="409" h="415">
                <a:moveTo>
                  <a:pt x="0" y="0"/>
                </a:moveTo>
                <a:lnTo>
                  <a:pt x="408" y="0"/>
                </a:lnTo>
                <a:lnTo>
                  <a:pt x="408" y="414"/>
                </a:lnTo>
                <a:lnTo>
                  <a:pt x="0" y="41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371840" y="190440"/>
            <a:ext cx="621000" cy="706320"/>
          </a:xfrm>
          <a:custGeom>
            <a:avLst/>
            <a:gdLst/>
            <a:ahLst/>
            <a:rect l="l" t="t" r="r" b="b"/>
            <a:pathLst>
              <a:path w="391" h="445">
                <a:moveTo>
                  <a:pt x="0" y="0"/>
                </a:moveTo>
                <a:lnTo>
                  <a:pt x="390" y="0"/>
                </a:lnTo>
                <a:lnTo>
                  <a:pt x="390" y="444"/>
                </a:lnTo>
                <a:lnTo>
                  <a:pt x="0" y="44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03400" y="39178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37440" y="127080"/>
            <a:ext cx="83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58680" y="15271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200" y="2978280"/>
            <a:ext cx="62064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08400" y="698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7680" y="171360"/>
            <a:ext cx="611280" cy="630360"/>
          </a:xfrm>
          <a:custGeom>
            <a:avLst/>
            <a:gdLst/>
            <a:ahLst/>
            <a:rect l="l" t="t" r="r" b="b"/>
            <a:pathLst>
              <a:path w="385" h="397">
                <a:moveTo>
                  <a:pt x="0" y="0"/>
                </a:moveTo>
                <a:lnTo>
                  <a:pt x="384" y="0"/>
                </a:lnTo>
                <a:lnTo>
                  <a:pt x="384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84240" y="316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09760" y="171360"/>
            <a:ext cx="639720" cy="630360"/>
          </a:xfrm>
          <a:custGeom>
            <a:avLst/>
            <a:gdLst/>
            <a:ahLst/>
            <a:rect l="l" t="t" r="r" b="b"/>
            <a:pathLst>
              <a:path w="403" h="397">
                <a:moveTo>
                  <a:pt x="0" y="0"/>
                </a:moveTo>
                <a:lnTo>
                  <a:pt x="402" y="0"/>
                </a:lnTo>
                <a:lnTo>
                  <a:pt x="402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79520" y="6048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52560" y="171360"/>
            <a:ext cx="69696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5320" y="20304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72080" y="200160"/>
            <a:ext cx="677880" cy="715680"/>
          </a:xfrm>
          <a:custGeom>
            <a:avLst/>
            <a:gdLst/>
            <a:ahLst/>
            <a:rect l="l" t="t" r="r" b="b"/>
            <a:pathLst>
              <a:path w="427" h="451">
                <a:moveTo>
                  <a:pt x="0" y="0"/>
                </a:moveTo>
                <a:lnTo>
                  <a:pt x="426" y="0"/>
                </a:lnTo>
                <a:lnTo>
                  <a:pt x="426" y="450"/>
                </a:lnTo>
                <a:lnTo>
                  <a:pt x="0" y="4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34160" y="209520"/>
            <a:ext cx="69696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46920" y="24120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5120" y="1638360"/>
            <a:ext cx="62100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25520" y="14889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1600200"/>
            <a:ext cx="69660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1320" y="16318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58680" y="289548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84200" y="2949480"/>
            <a:ext cx="620640" cy="64944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5520" y="285768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98920" y="2968560"/>
            <a:ext cx="696600" cy="64944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1320" y="300024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4960" y="1562040"/>
            <a:ext cx="639720" cy="649440"/>
          </a:xfrm>
          <a:custGeom>
            <a:avLst/>
            <a:gdLst/>
            <a:ahLst/>
            <a:rect l="l" t="t" r="r" b="b"/>
            <a:pathLst>
              <a:path w="403" h="409">
                <a:moveTo>
                  <a:pt x="0" y="0"/>
                </a:moveTo>
                <a:lnTo>
                  <a:pt x="402" y="0"/>
                </a:lnTo>
                <a:lnTo>
                  <a:pt x="402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156204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33880" y="156204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33920" y="1523880"/>
            <a:ext cx="677880" cy="716040"/>
          </a:xfrm>
          <a:custGeom>
            <a:avLst/>
            <a:gdLst/>
            <a:ahLst/>
            <a:rect l="l" t="t" r="r" b="b"/>
            <a:pathLst>
              <a:path w="427" h="451">
                <a:moveTo>
                  <a:pt x="0" y="0"/>
                </a:moveTo>
                <a:lnTo>
                  <a:pt x="426" y="0"/>
                </a:lnTo>
                <a:lnTo>
                  <a:pt x="426" y="450"/>
                </a:lnTo>
                <a:lnTo>
                  <a:pt x="0" y="45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96000" y="1533600"/>
            <a:ext cx="696960" cy="64908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08760" y="15652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4057560"/>
            <a:ext cx="611280" cy="630360"/>
          </a:xfrm>
          <a:custGeom>
            <a:avLst/>
            <a:gdLst/>
            <a:ahLst/>
            <a:rect l="l" t="t" r="r" b="b"/>
            <a:pathLst>
              <a:path w="385" h="397">
                <a:moveTo>
                  <a:pt x="0" y="0"/>
                </a:moveTo>
                <a:lnTo>
                  <a:pt x="384" y="0"/>
                </a:lnTo>
                <a:lnTo>
                  <a:pt x="384" y="396"/>
                </a:lnTo>
                <a:lnTo>
                  <a:pt x="0" y="396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048200"/>
            <a:ext cx="621000" cy="64908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55760" y="3975120"/>
            <a:ext cx="8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81280" y="4038480"/>
            <a:ext cx="620640" cy="649440"/>
          </a:xfrm>
          <a:custGeom>
            <a:avLst/>
            <a:gdLst/>
            <a:ahLst/>
            <a:rect l="l" t="t" r="r" b="b"/>
            <a:pathLst>
              <a:path w="391" h="409">
                <a:moveTo>
                  <a:pt x="0" y="0"/>
                </a:moveTo>
                <a:lnTo>
                  <a:pt x="390" y="0"/>
                </a:lnTo>
                <a:lnTo>
                  <a:pt x="390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22600" y="3936960"/>
            <a:ext cx="8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95640" y="4048200"/>
            <a:ext cx="696960" cy="649080"/>
          </a:xfrm>
          <a:custGeom>
            <a:avLst/>
            <a:gdLst/>
            <a:ahLst/>
            <a:rect l="l" t="t" r="r" b="b"/>
            <a:pathLst>
              <a:path w="439" h="409">
                <a:moveTo>
                  <a:pt x="0" y="0"/>
                </a:moveTo>
                <a:lnTo>
                  <a:pt x="438" y="0"/>
                </a:lnTo>
                <a:lnTo>
                  <a:pt x="438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8400" y="4079880"/>
            <a:ext cx="56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25880" y="2857680"/>
            <a:ext cx="3594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Work out the sums with a friend - in French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21:58Z</dcterms:created>
  <dc:creator>Helen</dc:creator>
  <dc:description/>
  <dc:language>en-US</dc:language>
  <cp:lastModifiedBy>Helen</cp:lastModifiedBy>
  <dcterms:modified xsi:type="dcterms:W3CDTF">2010-05-22T13:22:51Z</dcterms:modified>
  <cp:revision>2</cp:revision>
  <dc:subject/>
  <dc:title>Slide 1</dc:title>
</cp:coreProperties>
</file>